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613B-373D-4BE1-B256-1E062C570D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in pairs, helping each other, then display their writing to others. The class can decide which letter they like best, and pick out 2 errors each to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D737-A87B-4B20-8866-CD74B917C64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90 -10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431B-41BF-41AD-9631-2AF57E83612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or groups make lists and then comp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E886-04AD-462B-AC1C-A1557E29A58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: America’s most dangerous ex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496D-72B8-4225-B010-ECC0A048A88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/groups disc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C668-67B1-48EA-A331-D8507C65FF8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 1) c  2) e  3) b  4)  f  5)  a  6)  j  7) h  8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5936-F0C5-44ED-AD5E-036025938D5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in pairs/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71AD-640C-4A09-9D5C-BE52952619F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the key words learners will need to scan for to find the answers and agree with them on an appropriate time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are true except (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17B6-B4EB-41B5-8BE4-A754C273DBB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2D36-F36B-4212-8159-CE22A22CEAC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9E3-DF09-4F3C-856B-9FBF6017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FE2-2640-4A5F-BD32-2BC71C37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433-DC7A-405F-8D7F-96A3DD9E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1A5-502E-449B-A836-E32DD945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D65-2C5C-475B-8280-3E1393DF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0A9-3836-43C6-A9C1-FCB1D240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094-9D02-42D4-867F-B61D2350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0FB-31E4-4E97-AB58-6D39D8A0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B66-C9CC-42FE-A43C-D700A160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5BA-1454-4575-A6C6-E9E3E9D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01CB-AB78-4869-955A-F4A20DD5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706-3976-4BEC-8042-32DD17D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F8D8-836C-425B-8BDE-C7B922042E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int.org/blog/2014/08/22/america-obesity-export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merica%27s_most_dangerous_expor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1698120"/>
            <a:ext cx="669600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508464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574120" cy="148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928880" y="1916280"/>
            <a:ext cx="50576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984807"/>
                </a:solidFill>
                <a:latin typeface="Calibri"/>
              </a:rPr>
              <a:t>Writing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58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Write a letter to President Obama explaining what he should do about America’s export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318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ow read the original artic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4/08/22/america-obesity-expor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4508640" y="393840"/>
            <a:ext cx="38541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Today’s lesson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Spea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Readi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riting a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067360" y="260280"/>
            <a:ext cx="3610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32523"/>
                </a:solidFill>
                <a:latin typeface="Calibri"/>
              </a:rPr>
              <a:t>              </a:t>
            </a: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List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Make a list of what you think the USA exports to other countri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012000" y="309600"/>
            <a:ext cx="23050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32523"/>
                </a:solidFill>
                <a:latin typeface="Calibri"/>
              </a:rPr>
              <a:t>                     </a:t>
            </a: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eadlin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372360" y="189000"/>
            <a:ext cx="2303280" cy="137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460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Put the headline in the right order</a:t>
            </a:r>
            <a:r>
              <a:rPr b="0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84807"/>
                </a:solidFill>
                <a:latin typeface="Calibri"/>
              </a:rPr>
              <a:t>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export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  ‘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s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most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America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danger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Discuss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at do you think are America’s dangerous export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y are they dangerous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443640" y="189000"/>
            <a:ext cx="23050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24000" y="188640"/>
            <a:ext cx="3095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2523"/>
                </a:solidFill>
                <a:latin typeface="Calibri"/>
              </a:rPr>
              <a:t>Match words and meaning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260280"/>
            <a:ext cx="561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1) Illness – when blood pressure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2) It helps your body u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3) Describes someone who is very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4) Deep sleep – you cannot wake up the per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5) The health problem when people are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6) Part of food which is good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7) Like crisps and popcor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8) Illness – when  the body has a problem with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16720" y="1844280"/>
            <a:ext cx="369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40000" y="1557000"/>
            <a:ext cx="309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a) 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b)  ob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c) 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d) 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e) 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f)   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h)  jun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i)   nutr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True or false? What do you think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1)The US spends about $150 billion a year on obesity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2) 70 per cent of  women and nearly 40 per cent of men in South Africa are overweight or obes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3) In Mexico soft drinks are often cheaper than bottled wat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4) The US government gives money to help sell junk foo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5) The US government gives money to help sell fruit and vegetabl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6) More people in the world die from obesity than hung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7) More people die from junk food than from drugs</a:t>
            </a:r>
            <a:r>
              <a:rPr b="1" lang="en-GB" sz="3000" spc="-1" strike="noStrike">
                <a:solidFill>
                  <a:srgbClr val="984807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Now read the text and check your ideas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292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merica%27s_most_dangerous_ex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97480" y="2421000"/>
            <a:ext cx="3362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Read the text again – are these sentences</a:t>
            </a:r>
            <a:br>
              <a:rPr sz="2800"/>
            </a:b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 true or fal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Many countries do  not have enough money to help people with diabet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Taco Bell wants Americans to eat an extra meal every 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There are plans to sell more Coca Cola to the poorer people in South Afric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Obesity is America’s worst expor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251840" y="333360"/>
            <a:ext cx="16318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13:58:53Z</dcterms:created>
  <dc:creator>Linda Ruas</dc:creator>
  <dc:description/>
  <dc:language>en-US</dc:language>
  <cp:lastModifiedBy>Linda Ruas</cp:lastModifiedBy>
  <dcterms:modified xsi:type="dcterms:W3CDTF">2014-08-31T20:33:01Z</dcterms:modified>
  <cp:revision>63</cp:revision>
  <dc:subject/>
  <dc:title>PowerPoint Presentation</dc:title>
</cp:coreProperties>
</file>